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AB78-5CB7-4656-A371-251BC9BB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9B5C-FFCD-4B7E-B642-3736EECA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D368-0B11-4598-B7C6-74BCA1F2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FC13-4E20-40E5-BBF6-5152D5D7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A39C-56D5-4A41-B934-8FA2E301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C5C4-4358-414F-B581-0D8282D1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A3FE-B0A7-4486-9ECD-A3B02361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67A8-964C-4D56-80BB-3517216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8969-5011-4B07-BAF3-8F634E3B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1A6D-2E4B-4F69-A9F9-640C91E8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2FFF-DC88-4470-89F3-50C6607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3E9B-26C1-4E40-A88B-41012051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5E1C-5BAB-4CCC-BCC8-B7448F13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C4FE-C865-45F2-923C-A39AE49A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1FA5-9706-4AB8-9B8F-4940D6DE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3A92-367A-49DE-AB16-8AD9C40C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A40F-7A66-4BF9-994A-130568D6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81FD-8BC9-4481-9C95-085A2780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4E9C-19AB-411D-8052-D27D0C16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38DD-8F14-4AE7-9E41-806C83B8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4801-3A19-4F9B-BC9D-B0A60D0E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73AA-2956-4D9B-9637-8E9D0FB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45E7-E821-41D4-B3D4-F35E47B3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AC64-2AD4-4794-9AD8-DC27B267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7F84-60B6-49D3-9FD6-B87266746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DB4B-FB25-49E3-B299-95D66B977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6666"/>
                </a:solidFill>
                <a:latin typeface="Castellar"/>
              </a:rPr>
              <a:t>INFINITIVE </a:t>
            </a:r>
            <a:br>
              <a:rPr sz="7500"/>
            </a:br>
            <a:r>
              <a:rPr b="1" lang="en-US" sz="7500" spc="-1" strike="noStrike">
                <a:solidFill>
                  <a:srgbClr val="006666"/>
                </a:solidFill>
                <a:latin typeface="Castellar"/>
              </a:rPr>
              <a:t>vs </a:t>
            </a:r>
            <a:br>
              <a:rPr sz="7500"/>
            </a:br>
            <a:r>
              <a:rPr b="1" lang="en-US" sz="7500" spc="-1" strike="noStrike">
                <a:solidFill>
                  <a:srgbClr val="006666"/>
                </a:solidFill>
                <a:latin typeface="Castellar"/>
              </a:rPr>
              <a:t>GERUND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457200"/>
          <a:ext cx="8229600" cy="55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Go on + in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stop doing smth &amp; start doing smth 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he had learnt Hungarian, 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ent on to lear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ani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Try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m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ie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r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cop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her new jo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Regret + 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orry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gret to infor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that your flight has been delay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Hate + 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e what one is about to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te to interrup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, but I must talk to yo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Go on + g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continue to do sm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rchestr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ent on play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hile the Titanic was sink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Try + ger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y eat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ten but very little at a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Regre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feel sorry for the past even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gret tell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r a li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Hate + ger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 sorry for what one is do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te mak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feel embarrass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476280"/>
          <a:ext cx="8218440" cy="539064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of 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of the –ing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68360" y="1557360"/>
          <a:ext cx="4103640" cy="4247640"/>
        </p:xfrm>
        <a:graphic>
          <a:graphicData uri="http://schemas.openxmlformats.org/drawingml/2006/table">
            <a:tbl>
              <a:tblPr/>
              <a:tblGrid>
                <a:gridCol w="1366920"/>
                <a:gridCol w="1152360"/>
                <a:gridCol w="1584360"/>
              </a:tblGrid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C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rep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be repai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have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have been repai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be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have been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716360" y="1628640"/>
          <a:ext cx="3888000" cy="417636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i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repair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been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6d0"/>
            </a:gs>
            <a:gs pos="100000">
              <a:srgbClr val="779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rund is use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ith the verbs and verbal phra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void                                                                 to recall/ to recol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burst ou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to 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deny                                                                  to 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njoy                                              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xcuse                                           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suggest  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anc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exclamation &amp; surpr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i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org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give up/to leave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go on/to keep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mi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negative &amp; interrogative sente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postpone/to put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nnot (can’t) help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cons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cl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sc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vo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the verbs and verbal phrases used with pre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ike the idea of                                        to suspec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ccuse of/to blame smb for                   to persis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gree to                                                    to prevent from/to stop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pprove of                                                to rely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plain of                                              to resul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pologize for                                            to suspend smb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give for                                                 to speak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ngratulate on                                        to thank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unt on                                                    to thin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epend on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look forwar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hear of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form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sist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eel like, to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cceed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bject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f92"/>
            </a:gs>
            <a:gs pos="100000">
              <a:srgbClr val="c5d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the following word combin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fraid of                                                to be sur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ngry for                                               to be surprised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ware of                                                to be worried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bored with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be 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busy                                                      to be responsibl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capable of                                             to be no use/n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clever at/to be good at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be used to/accustom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disappointed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engag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fond of/to be keen on/to be interest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guil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pleased (displeased)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grateful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’t 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ave difficult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proud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slow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sorr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rund is used with noun+pre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 of                                                                              reas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ce of                                                                       righ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y in                                                                      sen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ence in                                                                 skil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bit of                                                                           w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tak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f92"/>
            </a:gs>
            <a:gs pos="100000">
              <a:srgbClr val="c8d8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und is used with the following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ite of/desp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rund + Infinitive can be u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fraid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(cannot) af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read/to fear                         * NOTE: verb + inf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’s a good id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get*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special occa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ate*                                                     verb + ger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general stat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tend                                      e.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child was not afraid of remaining alo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like (dislike)*/to enjoy*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t that night he was afraid to stay alone on such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neglect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my n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efe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o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member/to recol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f92"/>
            </a:gs>
            <a:gs pos="100000">
              <a:srgbClr val="d0d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nge of m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verbs used either with an infinitive or a gerund can have different meaning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member/to fo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ike/to love/to hate/ to pre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read/to reg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af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dvise/to intend/to recomm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b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g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nderst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484280"/>
          <a:ext cx="8229600" cy="528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+ In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+ 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Stop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o make a break, pause in order to do sm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opped to cha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her pa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Remember + 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what one has to do, the du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member to loc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oo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Forget + 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 to do sm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orget to po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y lette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Mean + inf =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t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ans to mo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New Cast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Stop + g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o cease the action from contin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opped speak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looked at us in surpri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Remember + g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what has happe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ll alway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member see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in cla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Forget + ger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 a past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ll neve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orget swimm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Dead S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Mean + ger 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cause/ent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ant purchas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w equipment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6:35:45Z</dcterms:created>
  <dc:creator>Elizaveta</dc:creator>
  <dc:description/>
  <dc:language>en-US</dc:language>
  <cp:lastModifiedBy>Elizaveta</cp:lastModifiedBy>
  <dcterms:modified xsi:type="dcterms:W3CDTF">2011-04-27T18:23:05Z</dcterms:modified>
  <cp:revision>11</cp:revision>
  <dc:subject/>
  <dc:title>INFINITIVE  vs  GERUND</dc:title>
</cp:coreProperties>
</file>